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699A1-FCE5-4823-932A-D97D71E9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20886-8AA5-49E4-985D-3AD0A1A4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4A49B-E494-4303-83E4-7035814A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0FE94-BB05-4945-839A-1A9A48E8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904BE-36D4-4FAD-B014-42F5D91B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DA9FB-18C4-48A9-A5F3-DC81E3BF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D9882-FE46-4145-96D0-8843955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5F12A-E850-4902-80F5-021A1ECE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C3C29-F2F9-41BB-92B4-1D508F89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F2EB6-59FF-492C-B3A5-EB83368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960C3-80CE-444F-8608-84B29FAA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DA515-9C17-49B6-A463-6FAC13B3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6588000" y="5997600"/>
            <a:ext cx="2567160" cy="88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2C36-494C-47D6-83A6-0F761B52DFDF}" type="slidenum">
              <a:rPr b="0" lang="pt-P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613560" y="4489560"/>
            <a:ext cx="2530440" cy="2396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mo apresentar uma</a:t>
            </a:r>
            <a:br>
              <a:rPr sz="2400"/>
            </a:b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pt-PT" sz="5400" spc="-1" strike="noStrike">
                <a:solidFill>
                  <a:srgbClr val="ffffff"/>
                </a:solidFill>
                <a:latin typeface="Arial"/>
              </a:rPr>
              <a:t>Te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écnica estatística uti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cisão de escolha da amo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strução do questio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Metodologia (continuaçã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cedimentos de recolha d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cedimentos de análise dos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aracterização da amo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sultado dos testes estatí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ab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ção das hipót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nálise crítica dos resultados ob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mitações do est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comendações para pesquisa fu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Preparação da 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iar cópias de segurança para le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CD, memória U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rimir 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adicionar-lhe as notas necessár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einar 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sozinho e com públ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r o equip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suportes permitidos, software, versão, fontes disponív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r a s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Qualidade da projecção, cores, distância, legibil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Durante a 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umprimentar o jú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resentar-se e introduzir o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resentar o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r objectivo e suc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sar uma boa dicção, altura e ritmo apropr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doptar uma postura apropri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tilizar adequadamente a comunicação não-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speitar o tempo estabel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sponder às questões objectivamente, sem diva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ig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obrie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orm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niform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paraçã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erificação de condições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2276280"/>
            <a:ext cx="705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ign dos dia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abelas e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uiã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eparaçã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urante 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Apresentar uma t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ign dos diapositiv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obrie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r, tipos de letra, imagens, fun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niform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tipos de letra, títulos, legendas, espaça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significados psicológicos, combinações de cores, legibil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Fun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significados psicológicos, legibil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cor, tamanho, tipo de letra, hierarqu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Multimé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esign dos diapositivo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 (continu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2924280"/>
            <a:ext cx="360360" cy="360360"/>
          </a:xfrm>
          <a:prstGeom prst="rect">
            <a:avLst/>
          </a:prstGeom>
          <a:solidFill>
            <a:srgbClr val="2952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924280"/>
            <a:ext cx="360360" cy="36036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924280"/>
            <a:ext cx="360360" cy="360360"/>
          </a:xfrm>
          <a:prstGeom prst="rect">
            <a:avLst/>
          </a:prstGeom>
          <a:solidFill>
            <a:srgbClr val="c2c0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924280"/>
            <a:ext cx="360360" cy="360360"/>
          </a:xfrm>
          <a:prstGeom prst="rect">
            <a:avLst/>
          </a:prstGeom>
          <a:solidFill>
            <a:srgbClr val="004a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2924280"/>
            <a:ext cx="360360" cy="360360"/>
          </a:xfrm>
          <a:prstGeom prst="rect">
            <a:avLst/>
          </a:prstGeom>
          <a:solidFill>
            <a:srgbClr val="5758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2924280"/>
            <a:ext cx="360360" cy="360360"/>
          </a:xfrm>
          <a:prstGeom prst="rect">
            <a:avLst/>
          </a:prstGeom>
          <a:solidFill>
            <a:srgbClr val="dcdb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Tabelas e 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715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be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uniformidade da formatação, títulos, cabeçalhos, ordenação de dados, precisão, indicação da f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tipo de gráfico, escalas, factores de distracção e distor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0000" y="4149720"/>
          <a:ext cx="2706840" cy="18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149720"/>
                    <a:ext cx="27068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500720" y="4149720"/>
          <a:ext cx="2706480" cy="1866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149720"/>
                    <a:ext cx="27064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Guião da apresent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ítulo e 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bjectivos e hipót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nquadramento te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000" spc="-1" strike="noStrike">
                <a:solidFill>
                  <a:srgbClr val="ffffff"/>
                </a:solidFill>
                <a:latin typeface="Arial"/>
              </a:rPr>
              <a:t>Título da te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62728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Subtítulo se existi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Objectivos e hipóte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jectivos do est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scrição das hipót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nquadramento teó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Descriç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mplicações teóricas do est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estado da 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22:18:57Z</dcterms:created>
  <dc:creator>carlos1</dc:creator>
  <dc:description/>
  <dc:language>en-US</dc:language>
  <cp:lastModifiedBy>any</cp:lastModifiedBy>
  <dcterms:modified xsi:type="dcterms:W3CDTF">2006-02-22T18:40:18Z</dcterms:modified>
  <cp:revision>83</cp:revision>
  <dc:subject/>
  <dc:title>Tese</dc:title>
</cp:coreProperties>
</file>