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83F3D-1F76-4240-BE6A-FE2681E0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1C221-DBAA-49F8-B0A6-7A38A92A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F5C7E-B3CC-4781-946F-15A711AF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3A1BC-41E7-49DD-85E4-C0736772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D7F67-3CA2-47D9-8F23-1D34AADD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1836A-4315-4A60-AFEF-EA2E77AA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AD1F7-0BD5-4C89-864A-8F11942D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7104B-A915-4C4A-9329-8C4999F6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A7D9F-B1BB-419F-96FB-1F70618D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EAA85-C999-4FC2-9411-9ED085FB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05F04-84ED-49C4-AF1D-C68F6964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E4D88-6855-4B34-A8D3-35687E119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6588000" y="5975280"/>
            <a:ext cx="2556000" cy="88272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3"/>
          <a:stretch/>
        </p:blipFill>
        <p:spPr>
          <a:xfrm>
            <a:off x="4021200" y="5970600"/>
            <a:ext cx="2566800" cy="88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22CD-91B8-47C4-B885-CA05E809111C}" type="slidenum">
              <a:rPr b="0" lang="pt-P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615000" y="4489560"/>
            <a:ext cx="2529000" cy="2395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081320" y="4489560"/>
            <a:ext cx="2530440" cy="2396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000" spc="-1" strike="noStrike">
                <a:solidFill>
                  <a:srgbClr val="ffffff"/>
                </a:solidFill>
                <a:latin typeface="Arial"/>
              </a:rPr>
              <a:t>Tes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visão 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Verificação tipográ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Verificação ortográfica e sintác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osicionamento de tít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osicionamento de tabelas e fig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9640" y="2276280"/>
            <a:ext cx="7056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sign dos diaposi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abelas e grá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Guião d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reparação d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urante 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Apresentar uma te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Design dos diapositiv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Sobrie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cor, tipos de letra, imagens, fun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Uniform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tipos de letra, títulos, legendas, espaçamen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C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significados psicológicos, combinações de cores, legibilida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Fun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significados psicológicos, legibilida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cor, tamanho, tipo de letra, hierarqu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Multimé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Design dos diapositivos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 (continuaç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2924280"/>
            <a:ext cx="360360" cy="360360"/>
          </a:xfrm>
          <a:prstGeom prst="rect">
            <a:avLst/>
          </a:prstGeom>
          <a:solidFill>
            <a:srgbClr val="2952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58920" y="2924280"/>
            <a:ext cx="360360" cy="36036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35280" y="2924280"/>
            <a:ext cx="360360" cy="360360"/>
          </a:xfrm>
          <a:prstGeom prst="rect">
            <a:avLst/>
          </a:prstGeom>
          <a:solidFill>
            <a:srgbClr val="c2c0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11280" y="2924280"/>
            <a:ext cx="360360" cy="360360"/>
          </a:xfrm>
          <a:prstGeom prst="rect">
            <a:avLst/>
          </a:prstGeom>
          <a:solidFill>
            <a:srgbClr val="004a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64000" y="2924280"/>
            <a:ext cx="360360" cy="360360"/>
          </a:xfrm>
          <a:prstGeom prst="rect">
            <a:avLst/>
          </a:prstGeom>
          <a:solidFill>
            <a:srgbClr val="57585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87640" y="2924280"/>
            <a:ext cx="360360" cy="360360"/>
          </a:xfrm>
          <a:prstGeom prst="rect">
            <a:avLst/>
          </a:prstGeom>
          <a:solidFill>
            <a:srgbClr val="dcdb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Tabelas e 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715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be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uniformidade da formatação, títulos, cabeçalhos, ordenação de dados, precisão, indicação da fo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tipo de gráfico, escalas, factores de distracção e distorçã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900000" y="4221000"/>
          <a:ext cx="2706840" cy="186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221000"/>
                    <a:ext cx="270684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500720" y="4221000"/>
          <a:ext cx="2706480" cy="1866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4221000"/>
                    <a:ext cx="270648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Guião da apresent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ítulo e subtít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bjectivos e hipót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nquadramento teó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Conclus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000" spc="-1" strike="noStrike">
                <a:solidFill>
                  <a:srgbClr val="ffffff"/>
                </a:solidFill>
                <a:latin typeface="Arial"/>
              </a:rPr>
              <a:t>Título da tes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Objectivos e hipóte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bjectivos do estu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scrição das hipót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Enquadramento teór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scrição do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mplicações teóricas do estu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 estado da 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écnica estatística util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cisão de escolha da amos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strução do question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Escrever uma te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strutura da t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stilo grá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stilo de escr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it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ferências bibliográf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tas e referências cruz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strução dos índ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visão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Metodologia (continuaçã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rocedimentos de recolha dos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rocedimentos de análise dos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aracterização da amos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sultado dos testes estatís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abe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Verificação das hipót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Conclusõ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nálise crítica dos resultados obt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imitações do estu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comendações para pesquisa fu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Preparação da apresent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8218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riar cópias de segurança para le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CD, memória US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rimir 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adicionar-lhe as notas necessári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reinar 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sozinho e com públ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Verificar o equip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suportes permitidos, software, versão, fontes disponíve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Verificar a s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Qualidade da projecção, cores, distância, legibilida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Durante a apresent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umprimentar o jú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resentar-se e introduzir o 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resentar o 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er objectivo e suci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Usar uma boa dicção, altura e ritmo apropr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doptar uma postura apropri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Utilizar adequadamente a comunicação não-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speitar o tempo estabelec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sponder às questões objectivamente, sem diva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su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ig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obrie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Forma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Uniform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reparação d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Verificação de condições d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Estrutura da te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464000" cy="1728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Índices de figuras e tabe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gradeci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Resu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556000" y="3212640"/>
            <a:ext cx="4038480" cy="1295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nquadramento teó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Mét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3280" y="4221000"/>
            <a:ext cx="3529080" cy="1584360"/>
          </a:xfrm>
          <a:prstGeom prst="rect">
            <a:avLst/>
          </a:prstGeom>
          <a:solidFill>
            <a:srgbClr val="dcd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Bibliograf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Gloss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Índice remiss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Estilo gráf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Sobrie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tipos de letra, cor,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layo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Uniform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tipos de letra, títulos, legendas, espaçament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igor na 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correcção gramatical, sobriedade, uniformida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igor nos conteú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definições dos termos, citaçõ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scolha da pessoa do ver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eu, nós, impesso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Estilo de escrit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39640" y="4365720"/>
            <a:ext cx="43200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4365720"/>
            <a:ext cx="43164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08000" y="4869000"/>
            <a:ext cx="4105440" cy="916920"/>
          </a:xfrm>
          <a:prstGeom prst="rect">
            <a:avLst/>
          </a:prstGeom>
          <a:solidFill>
            <a:srgbClr val="dcd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cluo que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ve concluir-se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 autor que referi → o autor refer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corpo do parágra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m parágrafo isol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91440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Citaçõ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1989000"/>
            <a:ext cx="7561080" cy="580680"/>
          </a:xfrm>
          <a:prstGeom prst="rect">
            <a:avLst/>
          </a:prstGeom>
          <a:solidFill>
            <a:srgbClr val="dcdbc5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João dos Santos (1998) considera que a saúde mental está relacionada com a capacidade de “a pessoa ser capaz de se movimentar livremente dentro de si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3213000"/>
            <a:ext cx="7704360" cy="2770920"/>
          </a:xfrm>
          <a:prstGeom prst="rect">
            <a:avLst/>
          </a:prstGeom>
          <a:solidFill>
            <a:srgbClr val="dcdbc5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Uma das hipóteses levantadas por Mário Murteira (1997), relativamente à construção da União Europeia é a seguin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A integração económica não é um objectivo em 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mesma: é objectivo instrumental em relação 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construção de uma Europa política e culturalmente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identificada num projecto civilizac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Alternativamente, coloca a hipótese de que a integração económica é explicitamente assumida a nível económico mas apenas vagamente a outros níve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Normas para referências bibliográf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Norma 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autor, livro, capítulo, artigo, citação no texto, documentos electrónic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Norma portuguesa (NP 4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autor, livro, capítulo, artigo, citação no texto, documentos electrónic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4292640"/>
            <a:ext cx="8281800" cy="1512720"/>
          </a:xfrm>
          <a:prstGeom prst="rect">
            <a:avLst/>
          </a:prstGeom>
          <a:solidFill>
            <a:srgbClr val="dcd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Citação de livro segundo norma AP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Arnheim, R. (1971). Art and visual perception. Berkeley, CA: Univ. Of California P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Citação no texto segundo norma AP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populações de chimpanzés recorrem ao uso de utensílios oportunistas” (Vieira, 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Notas e referências cruza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Notas de rodapé e de fim de sec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Inserir – referência - nota de rodap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Inserir – referência – nota de rodapé – nota de fim de secçã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ferências cruz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Inserir – referência – referência cruza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4437000"/>
            <a:ext cx="2592360" cy="1224000"/>
          </a:xfrm>
          <a:prstGeom prst="rect">
            <a:avLst/>
          </a:prstGeom>
          <a:solidFill>
            <a:srgbClr val="dcd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Exempl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ver pág.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er 1.3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ver Fig. 7 da pág. 15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Construção dos índi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inserir – referência – índices e tabelas – índice de conteú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Índice remiss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marcar as entradas do índice remissivo com Alt- Shift –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inserir – referência – índices e tabelas – índice remiss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Índices de figuras e tabe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legendar as figur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inserir – referência – índices e tabelas – índice de figur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8T22:18:57Z</dcterms:created>
  <dc:creator>carlos1</dc:creator>
  <dc:description/>
  <dc:language>en-US</dc:language>
  <cp:lastModifiedBy>any</cp:lastModifiedBy>
  <dcterms:modified xsi:type="dcterms:W3CDTF">2006-02-22T18:42:19Z</dcterms:modified>
  <cp:revision>84</cp:revision>
  <dc:subject/>
  <dc:title>Tese</dc:title>
</cp:coreProperties>
</file>